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E7A-C17F-4AEF-8C6A-522D9EA9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622-E250-4E37-A533-A33C8FBD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36CB5-FDF3-4BBF-A4E5-D916248A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D6AF5-B629-4BC5-9779-A9151F3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B570E-E675-4C82-A6B8-B86A0C3D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138B7-8DFE-4784-B048-44D5592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DEE71-EB24-482F-9119-14DE252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8864F-5E62-422C-A218-09F626CA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A407B-6F71-4339-A541-5A08FF0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AE3EC-DD03-4A5F-95B5-68232B31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5C7BF-3ADB-4F7C-9278-902B1602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96516-833B-47AC-9DF3-CC64AE1D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232-4920-4BAF-9D7F-AE0D9294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B693B-E430-43B1-9D75-C0BD4DDB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CE1D4-270C-4F0D-853E-7670149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F1392-FD69-45D3-9457-6E580A26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C7FA2-C30B-4E61-8EF6-75324AD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4B6CA-8CA6-4401-9A1D-A21BF39C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3E9E4-64F5-4691-9B7E-5F41382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226E6-5E3E-47C4-B22B-892AA9C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7C101-D917-4920-A919-600F949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B2D0C-B335-4296-868A-6674927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E70C2-78B3-4287-807A-79525006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C84-1016-499C-AF0E-A5298196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DD7EC-6348-40A8-85D4-E9BEF48E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794EF-9084-439A-8272-107CA177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F62C1-547E-4266-8A46-6529D3EE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C6BA-28A0-48DC-AA35-32164517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F7602-2D27-48BF-AA8D-FC954B9B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A5433-33E9-468D-8B0E-57824A7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513F-90AD-4E0C-A1B5-4934D745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8FB85-F82E-4FC2-87E0-9C23B6E2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F7292-BF49-49C3-9EA9-CE5DF9B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20B3E-B913-43BA-9498-837AF27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343F-470D-4306-9A74-C217263E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171F3-3B0D-485F-ABC1-EB86B05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EA792-7F4C-4D9D-979B-3DEE0ADD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4B597-1018-4BB3-80AD-44881B31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CAB7E-5B68-45B3-86FA-C47B4B14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A423A-7D8B-46C9-AAD2-70161138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FE716-D56C-4987-B851-ED890DA3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AD15E-3833-43F1-84B6-2E230A7E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04E45-BD18-4DA7-B464-E6172364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9C4FA-71B9-4F13-9698-815B5E3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CF980-89A4-4AF3-9E76-07BFEC0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D0B3-E5C1-4837-83B9-F2648F7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03B04-805F-405E-A078-2A3F27C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7D633-AD37-48C4-81D4-31778399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5B38C-EF65-41B4-A436-03B5B23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00EBF-914C-4C8C-9AFB-C9F5577A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5E9C6-5E03-4976-91A5-7C2FDCD6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927B-35A4-427B-8FA5-D0EA3789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DF06-B15C-41FF-B74E-3723659D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64C8-CC07-4722-BE02-2038C317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EF5-3768-412C-8951-C0CD8E4A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AC7F-F42C-4AFA-BF2B-A09C6FC4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D26-B820-4278-992E-442B3808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5436-1F7B-4F83-AFB5-F5A2AFB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4844-158C-435B-8AAB-5D09C38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29B5-8C07-4EEB-814B-E708AFD2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910C-0400-45D6-9E6B-B7AA12EA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2FAE-3A95-4539-BC6A-6E6EB0E1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672F-83ED-48B3-AEAE-45B957DE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1FC6-2CD4-4EAC-A800-746E659C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F69F-C79F-4184-9CCF-B62A194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DD01-DB43-4830-88E1-3BD3191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0CE7-AA4A-433C-8D27-C863A55B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A1E-40F2-4261-9797-EC6D180F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16AE-AF4D-4CEF-975E-81623CD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C892-0007-48B9-A9AC-8BFEADB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5B2A-243C-4706-95A3-4CD5FBD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812E-99B1-4A5A-BD31-81BED21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9DED-872E-47F7-9864-3D2CA12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DD2E-A54F-4158-83DC-BC4198E9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480E-1C01-4CC4-9B58-8F169A8A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42E59-192E-4091-890A-DF8E99C4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A05A-1F40-4E48-BCA9-AD322CB2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0811-BBE1-48DC-BBCE-478CFA82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C56-E60D-49FC-A784-CDB1A64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388A-77B9-4C20-9DD0-415B26F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A037-18E7-4B74-A175-ECAA67F6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6CA7-C79F-4179-B47A-ADDD2AB5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5A11-E81D-4616-A8BF-9185F85E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D6D6-B567-45BF-9F8D-7DDC117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1B0F-1965-4071-973C-5B874770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93041-B878-457D-B799-FE9E671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86FEF-1D82-46C7-845A-3417A958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70BE-67BA-451E-A6F6-F9F73553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8A6D-442C-4620-8080-23AE7F58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EA6-5375-4474-BA21-3004F57B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CAEE-324E-418E-B775-A5D2BCC4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E64B-3363-4BC9-9B2C-657613DC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810E7-2D3C-43F4-A219-3C2D886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1A5A2-A2CB-42E6-B5E3-3468DAE2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510A-E5BE-48FC-B2AF-0F8946BE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4D7F2-57E5-4E7C-9147-3CA9AD3F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00CD-3D38-47D8-B5C9-3F31D16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7464-8567-4FD3-A385-5E31812C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7E0F3-D66D-429C-8723-2FD13A96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445C-7436-4C80-BA67-042B6084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C20-6FC2-4D93-857B-506DA582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C4AD5-CF3E-4E31-84CE-ACF62A06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E232-AD8D-4BDE-BC59-62B15CEA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4F98-B0B0-4389-8591-5C9F672B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7E81-DDF0-4067-B10B-CA7B0E0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9A9AD-EE63-472C-A810-8A19737E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3856-39D0-4D17-95ED-0DCB76E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4012A-D590-4496-B890-1D202EE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861F-3B79-431E-81A8-0F5F942F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E38A-DDDF-4C55-A008-B8B295DB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B070B-B9AD-49C6-A166-AAAA8B3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371-E5D7-4E8A-92C7-26A45C9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A9D7-60AA-4AB9-B113-9F130CFE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335C2-D75A-4C58-B900-1CC3A65D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D0EA8-AF94-46EB-92B8-3626CFAF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51BA6-3ACE-4A21-956E-3477D1D9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DB32-7263-443B-B2A5-5E1AA2B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F98CF-DE87-4911-91E0-BF95EB9C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EFCE-6D81-4C7C-A066-DA7D48F3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6A64-8F65-4C5B-80CE-BBB2600E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08B42-FFC5-4CCA-B40B-17CAA862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C18D3-C4C4-47AC-906A-BDCE45A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E42-FA28-4E78-89B2-5E8B119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7C9C0-931B-49F7-A917-A1B51A2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ACA65-6E84-42DD-9AD4-4304BAE9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50E36-C233-4F35-9D00-1830AA9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99B3-6CAB-47B6-B907-BCD993B6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76C83-809B-4B06-891B-DC8A3267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3E4B8-17BE-4E64-A754-9907F040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AA1E-04CB-4A8B-A263-AC53424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5E72-53BE-48B9-B7D5-7C851917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70D0D-3E4F-4777-A0C1-8276568E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8CD0-B4AB-4A69-B36B-DCB83206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F99-CE84-489F-AB36-14517329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C4642-C9B4-4531-BC50-D5E40656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F915-D8AE-4F2B-AB96-E0FFC51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145A-EE86-47B7-9346-58A6066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BDA09-789F-4220-B03D-573E29C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4EA4-A035-40F0-B6B0-E22C2A71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E8B2B-09B1-4FB7-A854-6AB3B2BF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2B7F-4413-47A9-AE9A-3A5C12B8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2283E-E260-4BC5-A196-1DE583ED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9C4B5-73A9-4C08-BA7C-A26D8641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032FF-7F67-40EB-9A8F-0D4A60A6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558C-3341-4EE6-9BA8-E0EB73A99E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8E1-4F7A-4A24-8001-FD2F4FA236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63B6-25E5-4E9A-865E-A4597DDF44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143-27D4-410B-AA86-1497B51279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120-4F39-425B-B3F1-A74684604D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425-96FB-4FD6-9525-66B2BD5849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2CA2-67E4-4D23-9220-1C559F783C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E0F6-68B4-4567-A52C-71BD1C5117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BEB5-8A0C-4064-AE74-B3EBFD9D7F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DEC-3EB9-4E5C-BCAB-72E9D2C446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4C1-112D-453E-A2EC-8B267493E9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E583-0FDE-4ABD-9092-DFF891EB2C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9 Keď divy tvojej moci zri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 luny, tichý vánok z hô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uk hro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áčích piesní chó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e chválu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najväčší je lásky či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nevýslovnej cen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pasiteľ, tvoj milý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k hriešnej sklonil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lásku tvoju preveľk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ilosť dáva človek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ždy ťa každý chvál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ivy tvojej moci zr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Tvorca a môj Pa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l tvojich ta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úma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ať dary z tvojej dla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naplnený úžas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v bázni pýtam: Čože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a mňa myslíš stá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eč tvojich činov pre mňa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v nekonečnej lásk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 hviezd, čo noci zjasň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vet skromnej sedmokrásk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pokrm dávaš, tíšiš smä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usmerňuješ svetov l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ým mocne vládn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búrku, víchor ovláda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oru staviaš hrádz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všetko tvorstvo starosť m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káš krásu z kvetov priadz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58:03Z</dcterms:modified>
  <cp:revision>30</cp:revision>
  <dc:subject/>
  <dc:title>Je veľký náš Pán, on slávy je Kráľ Nech do všetkých strán  spev vrúcnych znie chvál.</dc:title>
</cp:coreProperties>
</file>